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771-F2BD-4115-B67B-FE3D612E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8BA-35A4-4C45-B878-499AD91A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185-4DB6-486D-8AD3-48435DBE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40C-88D7-4825-BCC2-54742B66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9CF3-15CB-44D7-809F-47F087B8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1519-69C8-4697-BC04-AE619859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8ED5-6D35-4154-817A-09E80FBC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49E8-E253-429E-8647-F30711EE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4C15-4196-49EC-BF3F-CE03608A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9228-05F9-4997-B825-9101A1BE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AF58-F361-4795-863B-CA09F53B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E2A-FC24-4C79-B4D4-B8AFA0BB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3331-D36F-4D26-A786-CECB76DA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80A6-8011-480E-BB76-E601C8B5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BD7F-4610-4851-8C5D-BE2D5C14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77E1-AB90-4058-B2ED-19DF5999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4CC4-02E3-419E-81CF-F391B8D1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50D-3739-4B98-94D4-480A968F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CD9-7025-4097-86A6-A784EE1E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A28-409B-4E89-B934-4AA0FFD0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7DE-9EB6-46D7-901D-DFE341B5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F49-3315-459A-AAB9-1E7D3DA0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8FA-5477-40AA-8A4C-BF9BA1C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000-5440-4013-A6F0-1C728955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3294-B356-4205-91FE-07E5561FF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E921-7D71-47D7-B17F-98E66A4CA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cf.wisconsin.gov/childcare/licensed/CommManuals/dcf251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reas.gov/press/releases/docs/chdcare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1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 to Child Care Ser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-day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more than 4 but less than 24 hours per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ivities  and hours are regularly schedul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developmentally appropriate educationa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lly serves meals and sna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ndergarten programs may also be avail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rop-in group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provided in churches and shopping malls or recreational facilities (YMCA or FESTIVA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ld’s parents must be on prem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censing not requi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mily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 to 8 children may be cared for at  one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ten a variety of 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 atmosphere-usually in provider’s 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chool and Nurse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only last 4 or fewer hours per 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fers regularly scheduled hours and 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ents provide sna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mentally appropriate educational activities plan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hool-age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 ration of children to adul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s a variety of activities before and after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er care “camps” and vacation care may sometimes be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ck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s temporary care for ill children and is usually relatively expens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ice is limited to children with minor injuries and mild illn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 ratio of children to adults is comm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 needs grou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serviced by child care that is tailored to unique groups of child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include children of many 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tios depend upon type of activities provided and needs of child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er school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sponsored by recreational departments, YMCA’s, churches and school distri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ities are usually theme orient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ld car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fit or nonprofi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fit centers pay ta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profit centers do not pay sales tax or income ta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programs may participate in government-sponsored service 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fit or non profi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in-owned: by company or corporation usually owns multi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urch-sponsored: operated by a church board. Members have advant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result of economic factors and personal choice, most mothers work outside the home, creating the need for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types of child care are avail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er-staffing patterns establish a chain of command, and each position encompasses its specific responsibilit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’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ployer-sponsored: offered as a benefit by some employ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mily child care: work in their homes typic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-home care: Nannies, Au pairs live in or outside child’s home where care takes pl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’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ent cooperatives: owned and managed collectively by a group of parents- requires a high degree of participation by their me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ck child care: setting could be hospital, child care center, or child’s home.  Usually temporary c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nter Staff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larger centers include an assistant director who is responsible to the dire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head teacher is usually responsible for planning and implementing curricu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nter staffing, con’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stant teachers work under the guidance of the head teacher in the class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upport staff may consist of a custodian, cook, and bus dri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many smaller child care centers, the support staff’s responsibilities are part of the teaching staff’s job descri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it out for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 manual for licensed child car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dcf.wisconsin.gov/childcare/licensed/CommManuals/dcf251.HT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gin, open powerpoint, click on the link above.  Peruse the site until you are given your assignment/handout with further instru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background of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ally women have shouldered the responsibilities for child 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entury new perspectives ignored all working women’s vast obligations of domesticity and wage ear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ent perspectives in child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treas.gov/press/releases/docs/chdcare.pd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lf of all child care arrangements are provided outside the family 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WI, in 1999, 36% of children under the age of 6 were in paid child care while their parents work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oup child care settings are needed more than ev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r number of mothers in the workfor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single-parent fami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er geographical distance between family memb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umber of children rose 136% in last centu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acted in every state to establish minimum requirements for health and safety of children and child care provi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y important that each child care center summarize for its employees what is required by law of them to identify, document, and report child abuse and negl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islation, Con’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ld care centers and family child care providers who emphasize high quality care strive to go beyond the minimum regulations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er ratios of children to caregi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iculum is designed to meet the social, emotional, intellectual and physical development of young child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earch indicat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ctors support quality car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appropriate educational background of caregivers—child development and early childhood trai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previous experience of caregivers, such as employment in the child care field, not just parenting and babysit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consistency of staff (low staff turnov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ld Care Ser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-day group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op-in group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chool and nursery 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ool-age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ck child c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needs grou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mer schoo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02:35:59Z</dcterms:created>
  <dc:creator>LYN</dc:creator>
  <dc:description/>
  <dc:language>en-US</dc:language>
  <cp:lastModifiedBy>Lyn</cp:lastModifiedBy>
  <dcterms:modified xsi:type="dcterms:W3CDTF">2009-10-30T13:03:45Z</dcterms:modified>
  <cp:revision>15</cp:revision>
  <dc:subject/>
  <dc:title>Unit 1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